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F5F-88F0-4CAF-AE03-FD140295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712-E9A1-45C0-A147-A58D04F9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A28-4D3A-4668-8AC8-7F866D08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644-C711-4A25-8056-30D61002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732-2E10-478A-AB1E-6187209D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DF7-E17A-468A-93AF-65248E08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636-7C42-4B55-A015-0B24429B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A56-353E-43E1-B65B-BC61451C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0E8-7533-4974-A651-4F7D86C2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3CF-7B9B-4251-B784-9391FE44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B88-26AA-4B0B-8903-CAE0AA8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A4D-8B69-4CE7-86E3-1299ED5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790B-9301-4775-897E-5DF518F07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make a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one area of physical fitness you would like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goal using S.M.A.R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 have one show it to Mr. Pea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goal on ning.co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et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setting goals is to allow you to realize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are the maps to help us achieve a desired outco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et a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set goals using the S.M.A.R.T. acron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M.A.R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is for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are go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tion words (run, lift, ju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.1 miles in 24 minutes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A.R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is for M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sk needs to be meas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needs to be quantitative dat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NOT BE QUAL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.1 miles in 24 min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R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for A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sk needs to be difficult to reach, but not im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3.1 miles in 24 minutes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goal attainabl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R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for A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sk needs to be difficult to reach, but not im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 goal that will challenge you, but make it realisti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3.1 miles in 24 minutes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goal attainabl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is for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 means challenge, but not impossi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3.1 miles in 24 minutes by Januar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goal realistic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is for 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 timetable that is reasonable, but a timetable keeps us on tra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Pearson’s Example:  I will be able to run 3.1 miles in 24 minutes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anuary 18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201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6:12:30Z</dcterms:created>
  <dc:creator>CHS</dc:creator>
  <dc:description/>
  <dc:language>en-US</dc:language>
  <cp:lastModifiedBy>CHS</cp:lastModifiedBy>
  <dcterms:modified xsi:type="dcterms:W3CDTF">2009-09-30T16:51:50Z</dcterms:modified>
  <cp:revision>2</cp:revision>
  <dc:subject/>
  <dc:title>Setting Goals</dc:title>
</cp:coreProperties>
</file>